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11615"/>
        <c:axId val="69525933"/>
      </c:barChart>
      <c:catAx>
        <c:axId val="12111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25933"/>
        <c:crosses val="autoZero"/>
        <c:auto val="1"/>
        <c:lblAlgn val="ctr"/>
        <c:lblOffset val="100"/>
        <c:noMultiLvlLbl val="0"/>
      </c:catAx>
      <c:valAx>
        <c:axId val="69525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11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C17-04DB-4BD5-9119-AC4524CF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8CD-8C62-40C5-B5D4-2BE28E33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AF7-3CFA-48B6-BCFF-F2C9EBD2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DF6-D72E-4D4C-A847-31F6B93D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F39-6361-46C1-8F05-0997B647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8CC-BED2-4E2B-808A-0A117634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2BA-5A3D-4397-A7D8-99454B6E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000-EDC8-4DC3-9D4C-79DFEA8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757-7AA4-4C3B-8C88-2BA2E1C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0F2-459E-447F-957A-F32774AC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7F3-A2A3-48A7-9F0E-F086B037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018-FA27-4D40-80A9-133CE8A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FD753-B191-49B7-ABC7-DAB09F0626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