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91772"/>
        <c:axId val="54291325"/>
      </c:barChart>
      <c:catAx>
        <c:axId val="47191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91325"/>
        <c:crosses val="autoZero"/>
        <c:auto val="1"/>
        <c:lblAlgn val="ctr"/>
        <c:lblOffset val="100"/>
        <c:noMultiLvlLbl val="0"/>
      </c:catAx>
      <c:valAx>
        <c:axId val="54291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91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494-97C8-4703-A538-482AFCF7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5B2-64D0-4B43-8F41-4FD29A3B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BFC-0EC9-43EF-965C-CDAAB336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1D3-81EB-4C9E-9B71-628EBF37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528-4665-430F-A9E1-E4325BBB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BE4-F708-44DC-9C41-3AE65A7F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FA7-6E9A-4DF0-AA81-6F82729E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8E3-E564-43B0-9726-2991C650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7BE-B36D-4380-9463-EFD50C25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EC4-F4D4-4B39-91F5-1FB27F8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A08-678E-428E-ADC8-FE218E7F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A06-1CE6-4A60-BABF-7DBB187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E6142-3EA2-432F-AF76-80D4329128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