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68459"/>
        <c:axId val="10175859"/>
      </c:barChart>
      <c:catAx>
        <c:axId val="94368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75859"/>
        <c:crosses val="autoZero"/>
        <c:auto val="1"/>
        <c:lblAlgn val="ctr"/>
        <c:lblOffset val="100"/>
        <c:noMultiLvlLbl val="0"/>
      </c:catAx>
      <c:valAx>
        <c:axId val="10175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68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D9A1-3076-4F99-8CF9-73EE0BB6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8F7D-0359-4AFB-9B68-9265F1B6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ECA-B013-41FA-BF0A-AB5938FA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405-8D4C-45A1-BD28-C6927827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C34-E7DB-4C29-BA8B-25F7A765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B62-929B-4C85-B1F7-4B8C4E93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AE2-28C7-4180-B658-445A2C3F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768-3129-4F05-9BF3-5C9B431F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A46-FE0C-4EBC-B363-5BB1C2C4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0E7-9BCB-40E4-A394-8DC3D32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A56-5E17-4CB3-AAD6-BBBC89B2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1F1-093B-405F-959E-0EEAE44E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1E46F-BBFE-4BF9-9A74-9935482D1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