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176813"/>
        <c:axId val="23636612"/>
      </c:barChart>
      <c:catAx>
        <c:axId val="361768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636612"/>
        <c:crosses val="autoZero"/>
        <c:auto val="1"/>
        <c:lblAlgn val="ctr"/>
        <c:lblOffset val="100"/>
        <c:noMultiLvlLbl val="0"/>
      </c:catAx>
      <c:valAx>
        <c:axId val="236366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1768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71BB-BBF0-4ADB-B3B6-B6719E290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92E2-F5BD-4F0E-B5B5-D11DE04D3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1776-1427-4264-A44C-F6B9E4532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99D0-3D8E-4D3A-9243-FDFE0FD2B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F6BD-4A6C-48C4-B92C-F389F6BC7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931F-38EB-473A-B4B3-4C24E9777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2F71-9945-42B5-A09B-760796496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ADFC-3947-4DDD-B315-979E9299C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F1CB-6B12-4917-B23D-F80168B33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1AA4-DF6B-4A21-A176-B1B779A8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4048-4232-42F8-A2F2-AFBD9CBD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3075-CA1A-4FF5-9E05-A4F4954A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5534A4-AEEC-4235-8EE7-C5900DACB78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