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43613"/>
        <c:axId val="44274700"/>
      </c:barChart>
      <c:catAx>
        <c:axId val="61443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74700"/>
        <c:crosses val="autoZero"/>
        <c:auto val="1"/>
        <c:lblAlgn val="ctr"/>
        <c:lblOffset val="100"/>
        <c:noMultiLvlLbl val="0"/>
      </c:catAx>
      <c:valAx>
        <c:axId val="44274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43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B78-E7AE-430D-9563-8215DCD8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E11-BC26-4287-ACBF-EEFBD8CB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810-5E4F-4274-8F1B-8D522BB3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F6D-FA4E-4418-AFEF-B43F0A07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ED7-C67C-4E7A-827F-C712B03D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5E8-3CDD-4C1F-B425-82BAACB9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B11-41F9-4A09-A06A-0D0C1C50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FEB-C478-4594-A807-D39EFE9C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90A-BEDF-4773-8065-D3E2DFCF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F09-4401-41B3-8A68-8C65C00E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E44-ACAE-409C-B922-0293BD80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3CB-2A98-4373-BEA9-2E39A86C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8D9C6-898A-4F2C-BFA8-611B63274D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