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297141"/>
        <c:axId val="89715105"/>
      </c:barChart>
      <c:catAx>
        <c:axId val="282971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15105"/>
        <c:crosses val="autoZero"/>
        <c:auto val="1"/>
        <c:lblAlgn val="ctr"/>
        <c:lblOffset val="100"/>
        <c:noMultiLvlLbl val="0"/>
      </c:catAx>
      <c:valAx>
        <c:axId val="897151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971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3EAF-C21C-4BFA-9868-7E355851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2694-84A6-448C-AA70-F4D9AB3F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0401-961D-47A0-89D4-3D792965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B1B6-00C8-4251-AAAD-31D9556A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CF1D-40BA-4BC9-8B07-E493F410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B041-2479-4AF0-AF3E-C832A7F6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0BF4-8AE0-474A-ABC2-968DFD71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F7D6-E68B-400B-A8FF-FA84F899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F45F-0A17-49B1-8FA2-D8ACACDF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190B-A7A3-488F-92C5-449B3883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AA91-FA18-4C8C-9369-B1D838F3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A913-D79F-420C-A3DF-A5EF6F69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175BC-BDB2-432F-9475-E11DB85EE5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