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65706"/>
        <c:axId val="33833828"/>
      </c:barChart>
      <c:catAx>
        <c:axId val="75965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33828"/>
        <c:crosses val="autoZero"/>
        <c:auto val="1"/>
        <c:lblAlgn val="ctr"/>
        <c:lblOffset val="100"/>
        <c:noMultiLvlLbl val="0"/>
      </c:catAx>
      <c:valAx>
        <c:axId val="33833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5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740-ED61-418D-9C32-04BE0E0F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424-196E-4979-85B0-A991BDF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C93-EFE5-4E6E-8B62-54869DE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0BB-D16C-400C-BDD3-B17D797F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97F-2D13-4AFF-A388-BDDFC67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864-A209-41DC-8AEB-71DF0F51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56C-B84B-43B0-907E-6D93F00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089-386E-4168-8F36-6BFEA7D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F8C-61D3-4420-A78C-CDCB1735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F58-2872-497D-8EB8-A67A31E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F9C-7AF1-4A4F-AF74-B995E22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33B-8026-4B69-A727-310DF40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8285-162C-49C4-9362-E5E25C949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