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007"/>
        <c:axId val="73565257"/>
      </c:barChart>
      <c:catAx>
        <c:axId val="106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65257"/>
        <c:crosses val="autoZero"/>
        <c:auto val="1"/>
        <c:lblAlgn val="ctr"/>
        <c:lblOffset val="100"/>
        <c:noMultiLvlLbl val="0"/>
      </c:catAx>
      <c:valAx>
        <c:axId val="73565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01E-1542-4A12-81EE-BFEAA55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660-5EA4-4BB9-BB6C-8E3FFB9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03C-DBE2-4215-B0BF-527178B6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D78-DF43-4B12-B111-D233B943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AE2-EA35-4FA3-B739-BCA1E09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C0D-5006-4E0C-BD40-6B369A2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05E-7241-4FF0-8004-A9307830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18C-9967-49C9-A56F-E743969D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67C-239B-4E67-8AE7-33DC409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87-3A12-4D16-BA50-22F0B0B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52D-4402-409F-95B9-B3D6FB1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C1A-3146-4DCE-9648-151657E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434B-8527-4E5C-B06E-DC8F3F258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