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30807"/>
        <c:axId val="72571278"/>
      </c:barChart>
      <c:catAx>
        <c:axId val="14830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71278"/>
        <c:crosses val="autoZero"/>
        <c:auto val="1"/>
        <c:lblAlgn val="ctr"/>
        <c:lblOffset val="100"/>
        <c:noMultiLvlLbl val="0"/>
      </c:catAx>
      <c:valAx>
        <c:axId val="72571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30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F56-CF42-4339-AF1F-6792E7A8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EC7-C501-4CC9-9B91-BBEC9C5E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165-B6BE-4720-8F74-C430206C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F72-7DC3-424E-9053-55CCAF8E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A08-76A1-46D5-B17E-CB424F02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DD8-D539-4A06-846D-5BBAC977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B2A-B441-4F88-A146-3BD5F69B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450-264F-4FED-8311-055C26A7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AA8-CD62-4A33-B20F-B6B2DA63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981-7557-4031-A2F5-FE10A611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F91-6339-41EF-87C8-4C3F5C0A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7CF-384C-4EDE-8652-1A6EE443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96DEA-4C19-4ED6-A1B7-0956A59196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