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11643"/>
        <c:axId val="75656015"/>
      </c:barChart>
      <c:catAx>
        <c:axId val="65111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56015"/>
        <c:crosses val="autoZero"/>
        <c:auto val="1"/>
        <c:lblAlgn val="ctr"/>
        <c:lblOffset val="100"/>
        <c:noMultiLvlLbl val="0"/>
      </c:catAx>
      <c:valAx>
        <c:axId val="75656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11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ECF-0018-4F89-B6B1-0E5E9ED4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144-DDB3-4EAA-88E5-835B52D0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576-EEB6-4E6A-8B29-77508377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316F-F4FC-4528-B237-CACC1C4F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3277-4A51-4CA3-8727-D167ECC4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B03-E2DE-4CE2-889E-2BD18FE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AA8-1937-4AD2-86B1-08E61048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24C4-FB62-49B2-8C37-09A11FDA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1CB2-9306-4380-B7C5-0A9B7AF6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CEB0-1970-4171-8F7B-06AAA61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633-F65B-4721-BEB1-0C4D9E6A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175-C958-4863-83B7-36EFB51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8F4F2-1012-4545-ABBB-B254680C72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