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32870"/>
        <c:axId val="45742183"/>
      </c:barChart>
      <c:catAx>
        <c:axId val="59532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42183"/>
        <c:crosses val="autoZero"/>
        <c:auto val="1"/>
        <c:lblAlgn val="ctr"/>
        <c:lblOffset val="100"/>
        <c:noMultiLvlLbl val="0"/>
      </c:catAx>
      <c:valAx>
        <c:axId val="45742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32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993-DF64-4ECD-AD92-5A402FC2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54F-702E-4204-8523-C7A72315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193-3E83-4CAC-8DDA-DAB92D2E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5CD-1555-4C15-8314-0E8BE390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747-5823-4819-9EAE-8F70FFBB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9EB-7F38-4D99-972B-DBF94D7E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449-A1D5-44F9-AAEE-39784329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34D-9C55-4180-A609-6C53A221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E8C-D529-4EAE-A57D-DD5D6EFF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E2A-0879-42C3-9793-3A61A4C4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AB3-036E-432A-BE01-418BA519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E7A-3E94-49D1-83D7-0B094406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89040-044B-4F2F-860A-43C467C717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