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34522"/>
        <c:axId val="88671785"/>
      </c:barChart>
      <c:catAx>
        <c:axId val="17334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71785"/>
        <c:crosses val="autoZero"/>
        <c:auto val="1"/>
        <c:lblAlgn val="ctr"/>
        <c:lblOffset val="100"/>
        <c:noMultiLvlLbl val="0"/>
      </c:catAx>
      <c:valAx>
        <c:axId val="88671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4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7BE-AC98-4C80-9E84-130AD2E7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996-CC11-4AB0-8A5F-45947560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375-3DD9-420B-BC45-BDC6D038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693-DB4F-4CC1-8A1B-15D7FC93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E0E-BA24-43FD-8F38-97866956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37E-561A-4AB0-B01A-38BBF069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D19-2A13-4CBB-8584-34C6AFE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79E-8524-49DB-B89E-DF4174CD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93C-2125-4100-ACF8-AC5C577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CE0-2F5C-4536-A881-57C8461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DFD-4038-4864-A314-CC80AEB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27F-046A-493F-A23F-6AF7F6D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40A1C-CAB1-41D4-BAEF-CA57C108F1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