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7045"/>
        <c:axId val="65222856"/>
      </c:barChart>
      <c:catAx>
        <c:axId val="927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22856"/>
        <c:crosses val="autoZero"/>
        <c:auto val="1"/>
        <c:lblAlgn val="ctr"/>
        <c:lblOffset val="100"/>
        <c:noMultiLvlLbl val="0"/>
      </c:catAx>
      <c:valAx>
        <c:axId val="65222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C48-2FF8-4A59-941E-D17FE9F3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BA-02AA-4BC8-B43F-3C9F225F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404-626E-47F4-86AB-988AE448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3EF-3694-4BA9-B53B-3F99FF27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7B4-C2EB-4F80-8549-C7FDB450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E41-E823-4173-91BC-AA1CB6E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BE-DB1B-4407-A745-B6E8F8E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BE0-C067-4BBD-8EED-C5CB6BF6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ACC-79E1-4ACD-A7B9-5323FD1F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F82-21CC-41B4-A9A4-7BCC579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6E8-9D01-4FFE-8223-DFF8C7C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D70-7CE1-4630-85FB-C6AD7C39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CF0AC-E064-4D62-9BEA-A82170EEE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