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40360"/>
        <c:axId val="9856899"/>
      </c:barChart>
      <c:catAx>
        <c:axId val="51140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899"/>
        <c:crosses val="autoZero"/>
        <c:auto val="1"/>
        <c:lblAlgn val="ctr"/>
        <c:lblOffset val="100"/>
        <c:noMultiLvlLbl val="0"/>
      </c:catAx>
      <c:valAx>
        <c:axId val="9856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40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BF2-2F81-4ECC-A71C-B5D0D7DA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187-21AB-420B-AA9D-2AA53DFA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ECA-EDFC-499D-8F70-7C1E97EB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614-BC9D-4B4A-8C07-0DB470CB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5F1-8394-44F5-86A3-058C4E64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59C-D00D-41E2-B3CA-BF1BD5D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615-0B69-4ACF-83C4-7AA8AB1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263-AA98-43EC-9875-DE8C3CF2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6CD-0AAA-4377-A6E9-45B0F21A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86C-40D6-4133-A882-8DBEFBD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680-5315-4772-AEB2-7956DD4E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FCA-B5E4-4AF7-8095-AAB2863C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0649A-93E9-4069-B2E4-DC7F5FB86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