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61765"/>
        <c:axId val="12954622"/>
      </c:barChart>
      <c:catAx>
        <c:axId val="44761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54622"/>
        <c:crosses val="autoZero"/>
        <c:auto val="1"/>
        <c:lblAlgn val="ctr"/>
        <c:lblOffset val="100"/>
        <c:noMultiLvlLbl val="0"/>
      </c:catAx>
      <c:valAx>
        <c:axId val="12954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61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790-78DA-4046-B811-E15D4CE9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7D6-842B-4C80-A34C-EC2F9B89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EFB-BC1C-4B76-ACF5-CA9B61F4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4BA-175B-490E-8053-7E3C77CB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4CE-2E84-4B0E-AB54-9B6BF6B2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D41-52F8-4264-ABB6-41E147FF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84F-4037-4D61-BA7D-3F7C50E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8EE-E6DC-40B7-877B-5BD6F4D3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2AC-82B7-40C2-98B7-31766B0F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8B6-891C-4084-B1EE-443C9675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990-B4A6-4790-9AB8-29AF75E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3B5-7C2E-46C2-AB25-677007CD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28294-5F6A-46C7-BD7B-A652459264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