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07001"/>
        <c:axId val="97837205"/>
      </c:barChart>
      <c:catAx>
        <c:axId val="28307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37205"/>
        <c:crosses val="autoZero"/>
        <c:auto val="1"/>
        <c:lblAlgn val="ctr"/>
        <c:lblOffset val="100"/>
        <c:noMultiLvlLbl val="0"/>
      </c:catAx>
      <c:valAx>
        <c:axId val="978372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07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752-001A-4AEE-8E57-80E71073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56B-CB74-443D-8830-58FB79B5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73B-A735-4E92-A7C1-95868537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57B-2632-4625-8569-4449954B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11F-B842-41B5-8C2A-86416D63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798-B27D-4815-AA5A-E1CD08A1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C30-9A4D-4462-ADD2-EE5BF6C9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CC3-1AE5-4D67-BB1C-55D66795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D7F-7F75-48AB-8178-96193259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117-525C-4E40-914F-ED83C79D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C5E-4D1E-44F3-8521-7D2A8D11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D6A-3CBF-4CC4-9FA7-C1DF47F6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82E84-63AF-4C7D-AF73-A339AF5B53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