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13700"/>
        <c:axId val="91471493"/>
      </c:barChart>
      <c:catAx>
        <c:axId val="65613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71493"/>
        <c:crosses val="autoZero"/>
        <c:auto val="1"/>
        <c:lblAlgn val="ctr"/>
        <c:lblOffset val="100"/>
        <c:noMultiLvlLbl val="0"/>
      </c:catAx>
      <c:valAx>
        <c:axId val="91471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13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12E-1CFA-4BA6-8905-E1EBD165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C21-B62C-450B-A97F-CF7ED784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36F-F8B3-49B4-A609-6D11B640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A82-05D6-4B16-8E2B-61BC32F6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FAF-D2FF-4A1F-83DC-F42F0676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872-051A-4399-86D9-C18E4A4F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C10-95CD-4AB9-BE0E-68ADB396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1AA-79C1-4FE5-BBD6-45EFC47E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73C-1F69-4362-A601-94C4C84C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62F-7886-4CB2-8232-45B0A589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F45-1346-4206-B030-FB5E9A05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F85-5C35-4173-8051-1534AD9A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1E31B-E251-455D-BA35-362B2A3DF5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