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176689"/>
        <c:axId val="43097343"/>
      </c:barChart>
      <c:catAx>
        <c:axId val="831766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097343"/>
        <c:crosses val="autoZero"/>
        <c:auto val="1"/>
        <c:lblAlgn val="ctr"/>
        <c:lblOffset val="100"/>
        <c:noMultiLvlLbl val="0"/>
      </c:catAx>
      <c:valAx>
        <c:axId val="430973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1766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6AA3-3E6B-464A-989F-F2298A944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1849-0686-4B4C-A50A-C1F72FAB3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53C4-0A2A-4702-A109-23A4EBBC7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B9F9-F37E-4992-B78D-BC23465CA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F784-FB2A-442D-8377-ED537655A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DBF1-67BA-4899-8868-8906BE662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6645-A91C-4686-8E53-E84F487AD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B4B5-2D08-4580-9CF7-45F8405C8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A566-8345-469A-849E-A8AD8226F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A638-9681-4C5C-A0D1-0E1EC18EC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0718-A630-4B50-AD8E-C7E0BFED4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1157-CF43-47A9-8BFA-162A2756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D5E216-35DE-434F-8BB9-8450BB48E21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