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41891"/>
        <c:axId val="22086288"/>
      </c:barChart>
      <c:catAx>
        <c:axId val="38341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6288"/>
        <c:crosses val="autoZero"/>
        <c:auto val="1"/>
        <c:lblAlgn val="ctr"/>
        <c:lblOffset val="100"/>
        <c:noMultiLvlLbl val="0"/>
      </c:catAx>
      <c:valAx>
        <c:axId val="22086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41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593-2CE7-46E0-9C6E-0F3485F4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402-EEE0-4B32-A417-A6B4F398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DC5-FDAD-44D7-BF3F-CC8A42CE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97E-D69D-4693-A29B-515B2015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27B-63AC-4D38-BC90-4B981E65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C8A-95B1-405C-89FD-D54CA216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E43-9776-426B-AC11-0631A302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A69-DE57-4396-B861-F25E5FA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E8A-8069-44EE-B6EB-7D596074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ABE-FA8F-494D-98C0-DDA89F8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8D4-82A6-4F12-BE53-7C6DA63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C71-EEB4-4CA9-829B-1BA960A2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7AB0F-2ECE-45DB-A0FF-4F5EC95525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