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52986"/>
        <c:axId val="29998796"/>
      </c:barChart>
      <c:catAx>
        <c:axId val="18152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98796"/>
        <c:crosses val="autoZero"/>
        <c:auto val="1"/>
        <c:lblAlgn val="ctr"/>
        <c:lblOffset val="100"/>
        <c:noMultiLvlLbl val="0"/>
      </c:catAx>
      <c:valAx>
        <c:axId val="29998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52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522-7DD6-4E70-882F-36A7EB8E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CF9-8006-4EA1-8104-37BE64F2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5C7C-9E5F-40E9-8A81-40F31125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18F-5F84-4113-9C25-FF93F01C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4D3-B19D-4377-AA34-71D98706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D29-E7CF-4B38-AE88-6E8499F2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E4E-F7A1-4394-B1E9-34481554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D1E-6F83-4918-923F-CA35E1E3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53A-E27B-4C7F-88FD-BC4FA92C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FE1-CD33-4D61-B4F3-7635C8A8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C68-2229-49A8-89C0-75E08575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B7F-CC3C-487E-907C-AD0C25DC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51DC8-DA06-4442-AC41-916BC53AC8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