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57227"/>
        <c:axId val="44889738"/>
      </c:barChart>
      <c:catAx>
        <c:axId val="25957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89738"/>
        <c:crosses val="autoZero"/>
        <c:auto val="1"/>
        <c:lblAlgn val="ctr"/>
        <c:lblOffset val="100"/>
        <c:noMultiLvlLbl val="0"/>
      </c:catAx>
      <c:valAx>
        <c:axId val="44889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57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27D-0D95-4F8C-9749-3128FDBC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EC3-B979-4B4B-AC54-9D41A26D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E9B-9CA6-4127-9061-89A7AD89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9E9-2131-4CF5-94D8-4B8D728F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746-EDD5-4407-AF02-15752C21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954-186E-437D-B30F-80571077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FD9-F5AB-4B28-9748-BB120995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69F-3AF3-40E2-B588-D98EF0D2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BD8-E7B5-4EF7-97CA-3684F7F5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E99-F361-47C0-A573-7ED5ED5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618-97B2-4686-A235-C6254A4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2E9-9783-4198-9FAA-0E91816F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3C315-4062-4E5D-8127-936782B3A5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