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045298"/>
        <c:axId val="34695290"/>
      </c:barChart>
      <c:catAx>
        <c:axId val="380452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95290"/>
        <c:crosses val="autoZero"/>
        <c:auto val="1"/>
        <c:lblAlgn val="ctr"/>
        <c:lblOffset val="100"/>
        <c:noMultiLvlLbl val="0"/>
      </c:catAx>
      <c:valAx>
        <c:axId val="346952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452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72FA-32D7-4AD7-9EAB-9CC347CB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B236-EF64-4638-8C41-E8A111BC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B38F-77C6-4412-A62E-0FD34ABC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99DC-9D61-44D1-BF65-25082CA0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C725-F794-4C68-A365-CFE3F1D6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AB0A-80A7-4ED0-8F41-2C60D74E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1B49-2E1D-4F80-8934-99F2682F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DAF1-CE37-4E2C-A49C-313351A8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3CFB-B5AD-46E2-B771-B331F40D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4D3F-C2D7-4EC1-8CDA-662BD27B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AAF3-D400-4BD1-80DF-9C25F638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8A29-BA9F-4B9C-99AE-36323D36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4BCC3-D726-46B7-9CD4-E0FAD810E3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