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08123"/>
        <c:axId val="34343797"/>
      </c:barChart>
      <c:catAx>
        <c:axId val="59108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43797"/>
        <c:crosses val="autoZero"/>
        <c:auto val="1"/>
        <c:lblAlgn val="ctr"/>
        <c:lblOffset val="100"/>
        <c:noMultiLvlLbl val="0"/>
      </c:catAx>
      <c:valAx>
        <c:axId val="34343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8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1D8-89D6-48B9-ACFD-008F132D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F69-8E10-429F-AE41-C55992B7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572-B764-4C30-9CD8-6D40C69F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5ED-980C-4EFF-88F8-4E0BFC5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F4D-D8BD-4156-A912-A0370006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FB0-B1E8-46E8-A403-E0D2FD6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B6A-A580-4B7E-BE73-37CF8152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E10-A3C7-40C4-BC11-62ADA21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E66-B16D-4630-B6EA-B391FB55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F90-4F82-4C92-8C4D-B5E8857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7F6-AB25-4DF4-8EF3-81B87D2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3E1-D561-486B-BCC4-9928772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66DE2-3AC5-4F2E-8C14-E60599415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