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9800"/>
        <c:axId val="24600889"/>
      </c:barChart>
      <c:catAx>
        <c:axId val="2159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0889"/>
        <c:crosses val="autoZero"/>
        <c:auto val="1"/>
        <c:lblAlgn val="ctr"/>
        <c:lblOffset val="100"/>
        <c:noMultiLvlLbl val="0"/>
      </c:catAx>
      <c:valAx>
        <c:axId val="24600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9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E81-4E87-440C-89CB-F1D1B0A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2AA-C837-4F00-AF84-6285E96C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C08-B172-4D26-8322-ECAE8985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CDB-B1CD-43D6-87C1-84E6AF57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AAC-26C9-4C32-8768-BC3901A0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E08-4880-422A-AEEB-732A7DFA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E69-F800-4943-8C35-61399B89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2E7-6353-46BB-A4B5-F41FF2C9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96D-143A-46D6-B379-3C2A80D0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82D-035E-47C5-8AD9-75EDCF73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1DA-BF03-4CC7-8824-787864B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1CC-0F35-41A6-8FA4-8CC8F01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30EF-5CD7-455F-A5F1-3214B354D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