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96436"/>
        <c:axId val="97378732"/>
      </c:barChart>
      <c:catAx>
        <c:axId val="73096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78732"/>
        <c:crosses val="autoZero"/>
        <c:auto val="1"/>
        <c:lblAlgn val="ctr"/>
        <c:lblOffset val="100"/>
        <c:noMultiLvlLbl val="0"/>
      </c:catAx>
      <c:valAx>
        <c:axId val="97378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96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AE8-9D8D-4DD0-BEF2-C83DD2EE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237-0F95-49BF-A65A-5D904650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F8B-E0B8-4B9C-AFF2-8D544AEA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6C5-FA45-452E-B290-3DB7F1D5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3F7-A038-4DC9-94DA-9977E4D4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DE4-16F1-4355-AC50-7515927B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7BB-D23E-4C89-AC51-B0E6BC77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8CC-5C51-4FA6-B439-AABB9222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85DF-73F5-414B-9304-5E636099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49E-C523-44F7-9A97-BE48E1C2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E29-5DA0-469B-9649-2055B1C8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0BD-D047-4B10-85F9-0C872E07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4E1B3-8453-489A-ABD8-40F6DAC175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