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5078"/>
        <c:axId val="46639895"/>
      </c:barChart>
      <c:catAx>
        <c:axId val="3185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39895"/>
        <c:crosses val="autoZero"/>
        <c:auto val="1"/>
        <c:lblAlgn val="ctr"/>
        <c:lblOffset val="100"/>
        <c:noMultiLvlLbl val="0"/>
      </c:catAx>
      <c:valAx>
        <c:axId val="46639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BDB-53B4-46BE-A935-4BFAB3E3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88B-321D-4274-AB45-B51DD490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C71-133D-4881-BD8A-19978DD6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24A-484A-47B2-866C-5FB03203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8C2-741D-40B0-8801-960137A2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671-7F89-47A3-9D95-14EC62B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555-DF75-42A6-A9E6-B32EA0F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223-6478-4BCE-9F14-86D848CD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9C6-371D-406D-B465-A655AEA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9DF-27E2-463B-A469-02F507E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236-5C86-441C-B1CA-193171D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65F-FA82-498A-BE1E-047B3F1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1FC73-C594-4A50-8BB5-C9E4365BD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