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01662"/>
        <c:axId val="13657115"/>
      </c:barChart>
      <c:catAx>
        <c:axId val="983016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57115"/>
        <c:crosses val="autoZero"/>
        <c:auto val="1"/>
        <c:lblAlgn val="ctr"/>
        <c:lblOffset val="100"/>
        <c:noMultiLvlLbl val="0"/>
      </c:catAx>
      <c:valAx>
        <c:axId val="13657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016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463-D494-4112-9E39-F06ADC20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E70-D590-444C-B09C-E5E75B23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194-BFB2-4182-BBDB-41B2C767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A4A-0B47-4841-86E1-39B624F2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F7B-9758-453C-9796-11DC5D65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9A2-79D2-41C1-9948-261C93C1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5DC-3D94-42C4-BEE8-99725820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404-2644-40A1-8487-E81BBAE0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E7B-BDF6-400E-AEB1-FF612E92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1D6-8667-4B6A-A9C1-8F07D195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C2C-C32D-40F6-804B-E574366C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DBB-A8BE-46E3-ACD5-E7DA6CCD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E07AE-C638-4381-AA5B-C12A5FB0B0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