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11979"/>
        <c:axId val="83907328"/>
      </c:barChart>
      <c:catAx>
        <c:axId val="40011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07328"/>
        <c:crosses val="autoZero"/>
        <c:auto val="1"/>
        <c:lblAlgn val="ctr"/>
        <c:lblOffset val="100"/>
        <c:noMultiLvlLbl val="0"/>
      </c:catAx>
      <c:valAx>
        <c:axId val="83907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11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91A-6325-4262-9DA1-436B1D74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080-CBFD-45DF-8A1C-122FB255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DC6-F282-40FF-A58C-D6DFB31F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06E-5DBD-4CD4-83CE-662441EA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628-9327-43E0-B425-C4CA6BC1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0EC-3E4F-4301-940A-3CCB7E62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956-D027-47A8-9BAF-7CC48C92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D68-174A-4C31-999A-4DAE5CF4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357-59B8-40BF-B7B2-0256BFF7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BDF-ABA4-47F4-B270-BD78BCCB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A92-08F3-4434-8A7B-D1D81800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3E77-68EC-4C59-97D2-17F08C6E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F28FB-0D9B-4D47-A6DE-A014DDA107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