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21567"/>
        <c:axId val="7840625"/>
      </c:barChart>
      <c:catAx>
        <c:axId val="44721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0625"/>
        <c:crosses val="autoZero"/>
        <c:auto val="1"/>
        <c:lblAlgn val="ctr"/>
        <c:lblOffset val="100"/>
        <c:noMultiLvlLbl val="0"/>
      </c:catAx>
      <c:valAx>
        <c:axId val="7840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21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3B3-5ECD-4B3D-BE52-F6E47A9C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EA4-EE2F-4137-ADB2-150923EF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153-97AA-40EA-B92F-386E12F8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EBC-3F4D-4D51-ABBF-ED769559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756-0290-4A56-8ADD-8CA0C426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5BB-DCF9-4A04-B3A9-256FC044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499-2DE3-4F84-BFAC-2DC5EB58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CA6-7006-4D99-8B53-4C11BF1A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FBC-CA88-416B-A6DD-89BCCC12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2B5-6147-4DFB-8AC2-9AEFD4BF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6E2-E5C4-47FA-9ADF-470E428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ED2-6A48-468A-A80C-D9FF463F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F333D-9566-4152-BF7C-C4B71D9477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