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140795"/>
        <c:axId val="10604069"/>
      </c:barChart>
      <c:catAx>
        <c:axId val="401407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604069"/>
        <c:crosses val="autoZero"/>
        <c:auto val="1"/>
        <c:lblAlgn val="ctr"/>
        <c:lblOffset val="100"/>
        <c:noMultiLvlLbl val="0"/>
      </c:catAx>
      <c:valAx>
        <c:axId val="106040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1407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FBD2-E083-4304-9B63-155C1B8A1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B2C2-8959-40D2-8182-46689543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E2AA-15B9-40DA-92AE-D98FA593B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DF20-5E52-44B8-BA40-DB1A02179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234B-20D2-406D-9F21-E96467F2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4302-CF82-49B3-BCDB-7D4EE99B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A888-310B-4473-AD18-CA9BC74F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E21F-16F9-4913-BC34-5233DA10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CA9A-D4AB-45F0-A254-5803753F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EFE2-03FF-4019-BF77-41D3309A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DFF1-0C78-4EEA-BAD6-37BAE5C8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8031-F798-48AF-9101-6F862671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071AAC-EF4A-4BFB-AAF2-E549CA70A7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