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01290"/>
        <c:axId val="19619876"/>
      </c:barChart>
      <c:catAx>
        <c:axId val="74801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19876"/>
        <c:crosses val="autoZero"/>
        <c:auto val="1"/>
        <c:lblAlgn val="ctr"/>
        <c:lblOffset val="100"/>
        <c:noMultiLvlLbl val="0"/>
      </c:catAx>
      <c:valAx>
        <c:axId val="19619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01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377-8795-4DF4-8C89-EB0FE960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77D-E900-4346-8595-AC591512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A64-0455-4495-9544-0EEA2C2A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901-9F50-418B-92B4-212AD172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F7F-9ABC-4CD8-8657-39D0F341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B9C-FB72-4041-BAA3-AD446F1E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49A-5A0E-4043-B771-13EAB9E7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961-BAC7-4CB3-BBDA-C926B31E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819-BD61-4827-A447-958C1D25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73A-20E2-4206-9CEB-266A2ED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023-1D55-4FF6-8318-2FB5A5F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102-0481-4BE6-9071-62E48E2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F495F-37DD-4936-B21C-AAE4D3D8A7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