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32882"/>
        <c:axId val="52222263"/>
      </c:barChart>
      <c:catAx>
        <c:axId val="32532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2263"/>
        <c:crosses val="autoZero"/>
        <c:auto val="1"/>
        <c:lblAlgn val="ctr"/>
        <c:lblOffset val="100"/>
        <c:noMultiLvlLbl val="0"/>
      </c:catAx>
      <c:valAx>
        <c:axId val="52222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2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55E-2443-4F8C-81D0-F5EEFD5C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627-47E6-4E54-9881-7C32BEB9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535-2F61-4D49-BF21-595EB2E9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943-414C-4FFD-9B7D-C51666F9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C2E-504E-443A-9C0C-1C8DCEAA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E5D-0AD4-497E-8C49-7E8A1659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48D-6280-43F5-AA13-D03A2203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476-EE68-45B4-BEDF-BD080834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2A2-9010-4D48-88FB-E8777B6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C41-73BC-4851-B438-0C174ED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E7E-0A2C-4D0A-8002-3F69DFCA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55F-05A3-4C55-994D-D198304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7C8B-B0C7-48AF-8C65-77C6161DD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