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064555"/>
        <c:axId val="95427994"/>
      </c:barChart>
      <c:catAx>
        <c:axId val="33064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27994"/>
        <c:crosses val="autoZero"/>
        <c:auto val="1"/>
        <c:lblAlgn val="ctr"/>
        <c:lblOffset val="100"/>
        <c:noMultiLvlLbl val="0"/>
      </c:catAx>
      <c:valAx>
        <c:axId val="954279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64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1E2-DE39-47E7-9549-45F340BF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F7FB-2336-4B18-86F0-06E2276C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746D-3166-4882-940A-842F099F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CD1A-030A-4DE5-A2C7-C9B7E44A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8519-F5F1-4815-9129-C89840F0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440E-EBB2-4CBE-8158-F155ABB2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9CDD-CC8E-4166-8F93-B2194514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8A1A-751F-47A7-9DEC-05B484D0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A79E-39B0-408E-B23A-19088AA8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08F-3D59-4CD3-98D7-5A0D2C17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8D3E-2D2F-4604-9021-5BC10B3A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5EE4-CA50-4752-9708-9FA735DA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BD385-4484-4BC4-917B-095E46B6D7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